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58FF5-A1FA-42CE-AE93-A391F2859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5ADC-608D-4060-AB5D-0B51810FD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0C8E-4276-4CED-993F-85D07D578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CC158-FF3A-4811-8CA2-073FC8880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AB3F9-4027-48C2-8617-4D7233F16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EDAB8-EB06-42A7-96C2-952A2ADC5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8075C-0F1C-4454-BA4B-6801AF0AC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C598C-4C16-437E-BEC5-4B0F44C90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7AF60-0BD1-4EEE-ADCF-6194CA360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20850-0633-4E17-BBEE-744FC5DA4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B69E1-2BE1-45A9-9284-6746E9B58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D06AC-49D8-4DFB-A619-C99E6568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D2F8-7DD3-4CA2-8D8D-B600BFAC1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16E0F-054B-4133-ADEF-A67896F43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B856B-1F18-4841-9B82-96B8404A8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C0724-9A2A-42E2-B5CE-7423205EB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083CC-A754-41BF-8F65-A9B1317FC4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002F2-8931-4060-9B08-B22733462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C43237-6CC9-474B-8008-10368BE38D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B7F0B-9083-4FB7-8C76-075E211026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75CAE-444B-47F1-A04C-3D94ADCD45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6081E-A5FE-4454-82EF-72663B5DC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D45D1-6FB0-465A-BC65-B4002E4C1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68A1C5-896D-46CE-811B-C23447E51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3C179-C795-4AE1-B0EF-805F1DA39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A040DC-70B1-4D44-BAD7-2E975AF88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1E686D-306C-4449-A5C6-38797CE4C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F050E-823E-4C37-8BD5-220F3DBF09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33925E-F89A-4115-A574-8B154FBC1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FF5724-EC5E-49FB-8639-ED85F138FF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C86BB6-4F97-41B4-B295-BB404CFAB2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49A13-01B7-41CA-95BC-5FED6FB7C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B2AFB-F2E2-4ED0-91B0-3D392AC43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49DD-37B2-45BF-A824-C05499A2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50FC13-9E8F-415D-859C-A4B3F41746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ED43E-374A-46A4-931C-A1DE9F3A3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7564E-3B40-4573-8590-576B601D94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AE755-E2CC-404D-B315-2ED2E190A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41F5E-FB4F-4B43-AD23-3C85E636C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3F541-0A0B-456A-8770-D939A5B02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2DD76-60F8-4D16-9065-C26C0FE8C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5C3C442-A5FB-4175-AA7A-0DC79E008C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C24814-2C8E-43E3-BE21-E32AC50335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D81252-0D81-4BC4-A36B-BFE81520BB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D35E-C70C-4509-AA14-0EACEAF9B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44A266-A637-48D4-9C34-E5D12A8E1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4A3407-D867-4861-B6F7-A082CF919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4C478-3028-45F2-85E0-2896D1EA1F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C1983-9101-4F68-9B47-7B3E58472F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49A3F-7A42-4216-9A2B-5F81BDB9E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DFF54-2B45-46EE-B175-A80DA910AC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67B14-E40F-4042-BC39-C7CB10F43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24080-55BB-4082-85F2-4783FD215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9500E-FCE3-48C1-9660-BB0221B5C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01508-1FA5-478E-B28F-650EC580C4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DB960-EDDA-459B-9F61-7C08B4E53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CA06B6-04B7-45C3-945B-FF73F7CCA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21ED9-4544-462A-BB29-87C0683BF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A082-B274-4F2B-B461-0E8977C40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D16A-0D5F-4B2E-A3B4-CFC70980A9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D67E-DF15-4A32-992F-50EED66481B3}"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C645-FA39-4930-ACB2-B31795C3446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9"/>
          <p:cNvSpPr/>
          <p:nvPr/>
        </p:nvSpPr>
        <p:spPr>
          <a:xfrm>
            <a:off x="-1440" y="-1440"/>
            <a:ext cx="9145440" cy="685944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9E63-DA9A-429E-94E5-A1CBC0078553}"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E4EA-70A6-426A-A3C6-AEBA5EC4158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prstGeom prst="pi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E1AB-8511-40B9-A443-C58F591D3B32}"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82B7-99C0-44D8-9B3F-FB66D7FBA78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1775-E432-4480-9FEB-DB8D5DAD92E2}"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77C41-98D5-48CF-BB2C-0A256B79CA98}"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prstGeom prst="pi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B8AA-47B5-49DC-B1B8-2289B9BE81EF}"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412E-2E5F-4463-A8F1-3510F289699F}"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305640" y="1130040"/>
            <a:ext cx="6937560" cy="12049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anklin Gothic Medium"/>
              </a:rPr>
              <a:t>A SCHOOL DIVIDED</a:t>
            </a:r>
            <a:endParaRPr b="0" lang="en-US" sz="5400" spc="-1" strike="noStrike">
              <a:solidFill>
                <a:srgbClr val="000000"/>
              </a:solidFill>
              <a:latin typeface="Franklin Gothic Medium"/>
            </a:endParaRPr>
          </a:p>
        </p:txBody>
      </p:sp>
      <p:sp>
        <p:nvSpPr>
          <p:cNvPr id="216" name="PlaceHolder 2"/>
          <p:cNvSpPr>
            <a:spLocks noGrp="1"/>
          </p:cNvSpPr>
          <p:nvPr>
            <p:ph type="subTitle"/>
          </p:nvPr>
        </p:nvSpPr>
        <p:spPr>
          <a:xfrm rot="19140000">
            <a:off x="975600" y="2074680"/>
            <a:ext cx="6953400" cy="69516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ranklin Gothic Book"/>
              </a:rPr>
              <a:t>NAAZAM BASIR, ALEX SALEH, SHE’NEKA WILLIAMS, MEAGAN GARDNER, JACQUELINE CASON, VICTORIA GARRIQUES, ALIYAH LEBOEUF</a:t>
            </a:r>
            <a:endParaRPr b="1" lang="en-US" sz="13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TORY</a:t>
            </a:r>
            <a:endParaRPr b="0" lang="en-US" sz="44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fontScale="9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mith High School has always had a problem with cliques.  Physical fights, verbal abuse, and damage to personal property has become the norm.  School staff is trying to mitigate the problem with suspensions and mediations, but nothing they do seems to help.  Recently, a student at SHS lost their life to this violence, and that is why they have decided to enact a Connect for Respect program at their school.</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GOAL</a:t>
            </a:r>
            <a:endParaRPr b="0" lang="en-US" sz="4400" spc="-1" strike="noStrike">
              <a:solidFill>
                <a:srgbClr val="000000"/>
              </a:solidFill>
              <a:latin typeface="Franklin Gothic Medium"/>
            </a:endParaRPr>
          </a:p>
        </p:txBody>
      </p:sp>
      <p:sp>
        <p:nvSpPr>
          <p:cNvPr id="220" name=""/>
          <p:cNvSpPr txBox="1"/>
          <p:nvPr/>
        </p:nvSpPr>
        <p:spPr>
          <a:xfrm>
            <a:off x="822240" y="1100160"/>
            <a:ext cx="7521840" cy="357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We will bring the students closer together so that they can learn to understand each others’ lives in order to increase empathy and decrease bullying at Smith High School.</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TEAM</a:t>
            </a:r>
            <a:endParaRPr b="0" lang="en-US" sz="44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Parent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unselor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chool administration</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cerned community members</a:t>
            </a:r>
            <a:endParaRPr b="1" lang="en-US" sz="3200" spc="-1" strike="noStrike">
              <a:solidFill>
                <a:srgbClr val="000000"/>
              </a:solidFill>
              <a:latin typeface="Franklin Gothic Book"/>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t least one representative from each student club/organization</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TIMES</a:t>
            </a:r>
            <a:endParaRPr b="0" lang="en-US" sz="4400" spc="-1" strike="noStrike">
              <a:solidFill>
                <a:srgbClr val="000000"/>
              </a:solidFill>
              <a:latin typeface="Franklin Gothic Medium"/>
            </a:endParaRPr>
          </a:p>
        </p:txBody>
      </p:sp>
      <p:sp>
        <p:nvSpPr>
          <p:cNvPr id="224" name=""/>
          <p:cNvSpPr txBox="1"/>
          <p:nvPr/>
        </p:nvSpPr>
        <p:spPr>
          <a:xfrm>
            <a:off x="822240" y="1100160"/>
            <a:ext cx="7521840" cy="3579840"/>
          </a:xfrm>
          <a:prstGeom prst="rect">
            <a:avLst/>
          </a:prstGeom>
          <a:noFill/>
          <a:ln w="0">
            <a:noFill/>
          </a:ln>
        </p:spPr>
        <p:txBody>
          <a:bodyPr anchor="t">
            <a:normAutofit fontScale="98000"/>
          </a:bodyPr>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In school assemblies every other week</a:t>
            </a:r>
            <a:endParaRPr b="1" lang="en-US" sz="28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Parent/Community nights once a month</a:t>
            </a:r>
            <a:endParaRPr b="1" lang="en-US" sz="2800" spc="-1" strike="noStrike">
              <a:solidFill>
                <a:srgbClr val="000000"/>
              </a:solidFill>
              <a:latin typeface="Franklin Gothic Book"/>
            </a:endParaRPr>
          </a:p>
          <a:p>
            <a:pPr marL="335880" indent="-3358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Meetings will continue at this frequency until the problem is solved, and then they will be reduced to every other month and once a quarter respectively</a:t>
            </a:r>
            <a:endParaRPr b="1"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a:t>
            </a:r>
            <a:endParaRPr b="0" lang="en-US" sz="4400" spc="-1" strike="noStrike">
              <a:solidFill>
                <a:srgbClr val="000000"/>
              </a:solidFill>
              <a:latin typeface="Franklin Gothic Medium"/>
            </a:endParaRPr>
          </a:p>
        </p:txBody>
      </p:sp>
      <p:sp>
        <p:nvSpPr>
          <p:cNvPr id="22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Over the summer, find a good anti-bullying speaker to come in and talk to the students about their clique problem.  Set up his/her visit for the start of the school year, so that you can set the tone for a new school year.</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 (CON’T)</a:t>
            </a:r>
            <a:endParaRPr b="0" lang="en-US" sz="4400" spc="-1" strike="noStrike">
              <a:solidFill>
                <a:srgbClr val="000000"/>
              </a:solidFill>
              <a:latin typeface="Franklin Gothic Medium"/>
            </a:endParaRPr>
          </a:p>
        </p:txBody>
      </p:sp>
      <p:sp>
        <p:nvSpPr>
          <p:cNvPr id="22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About a week after the speaker comes in, select one school day to do teambuilding exercises.  Break the students into random groups, and teach them how to work together to accomplish goals and solve problems.</a:t>
            </a:r>
            <a:endParaRPr b="1"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HE SOLUTIONS (CON’T)</a:t>
            </a:r>
            <a:endParaRPr b="0" lang="en-US" sz="4400" spc="-1" strike="noStrike">
              <a:solidFill>
                <a:srgbClr val="000000"/>
              </a:solidFill>
              <a:latin typeface="Franklin Gothic Medium"/>
            </a:endParaRPr>
          </a:p>
        </p:txBody>
      </p:sp>
      <p:sp>
        <p:nvSpPr>
          <p:cNvPr id="230" name=""/>
          <p:cNvSpPr txBox="1"/>
          <p:nvPr/>
        </p:nvSpPr>
        <p:spPr>
          <a:xfrm>
            <a:off x="822240" y="1100160"/>
            <a:ext cx="7521840" cy="3579840"/>
          </a:xfrm>
          <a:prstGeom prst="rect">
            <a:avLst/>
          </a:prstGeom>
          <a:noFill/>
          <a:ln w="0">
            <a:noFill/>
          </a:ln>
        </p:spPr>
        <p:txBody>
          <a:bodyPr anchor="t">
            <a:normAutofit/>
          </a:bodyPr>
          <a:p>
            <a:pPr marL="457200" indent="-45720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Book"/>
              </a:rPr>
              <a:t>Have students design and create a mural in the cafeteria.  Finalize the design by winter break, and finish the mural by spring break.  The school will hold at least two after school sessions per week, when the students can come to work on their section of the mural. </a:t>
            </a:r>
            <a:endParaRPr b="1" lang="en-US" sz="3000" spc="-1" strike="noStrike">
              <a:solidFill>
                <a:srgbClr val="000000"/>
              </a:solidFill>
              <a:latin typeface="Franklin Gothic Book"/>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2T15:10:42Z</dcterms:created>
  <dc:creator>User</dc:creator>
  <dc:description/>
  <dc:language>en-US</dc:language>
  <cp:lastModifiedBy>Alicia Upano</cp:lastModifiedBy>
  <dcterms:modified xsi:type="dcterms:W3CDTF">2013-08-28T21:18:37Z</dcterms:modified>
  <cp:revision>14</cp:revision>
  <dc:subject/>
  <dc:title>PowerPoint Presentation</dc:title>
</cp:coreProperties>
</file>